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B50-41CB-432C-9A7C-5312F86A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F10-F36B-4A3C-B26B-DFBA7673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F57-D3ED-4CC9-BC5B-4074FDC4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A72-9CD0-4751-A397-388BD6AE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96B7-84FD-4A1A-9997-2B80FD40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CA54-BDC2-4A0D-88E7-2AE9F1B3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CE4-6ED7-4E07-8278-5E727E04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CEF-C3B4-420E-865B-1AF7F753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6DFB-5D42-4208-A9AD-9D862EE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6B4-D330-4134-96A0-E41C7FEF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FE0A-98B9-44B2-998F-176D33A5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37B-590E-4AEB-AE5B-A10D0C4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AF6-660E-492D-9FBA-10B5C40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40BA-F43B-4A31-885E-4F89E76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2F4-C719-4020-A896-D542EB3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7109-BDDE-4B38-BEB1-8D99934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6F13-465A-4E1B-8667-1DBCCB8A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87E-ED7E-4654-9F1F-FE7C17D4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94A-B6D4-490F-BEA7-BE63488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C9B-4B14-4B62-9F16-F4D721C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ADF-9C08-4716-A299-F1E2263E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A6A-6B80-435D-8C6E-0293367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7B9-9095-4060-9910-BDD523C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418-62F4-433C-81CF-0E65065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0665-A1DB-4BB8-AF81-B52DBCC03DC7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CEE6-7024-4A0A-9A72-BC6895C9583B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7"/>
          <p:cNvSpPr/>
          <p:nvPr/>
        </p:nvSpPr>
        <p:spPr>
          <a:xfrm>
            <a:off x="5643720" y="2038320"/>
            <a:ext cx="2020680" cy="2155680"/>
          </a:xfrm>
          <a:custGeom>
            <a:avLst/>
            <a:gdLst/>
            <a:ahLst/>
            <a:rect l="l" t="t" r="r" b="b"/>
            <a:pathLst>
              <a:path w="1390462" h="1482863">
                <a:moveTo>
                  <a:pt x="598226" y="1751"/>
                </a:moveTo>
                <a:cubicBezTo>
                  <a:pt x="678840" y="-3808"/>
                  <a:pt x="761343" y="3786"/>
                  <a:pt x="842695" y="25793"/>
                </a:cubicBezTo>
                <a:cubicBezTo>
                  <a:pt x="1168103" y="113823"/>
                  <a:pt x="1393154" y="410312"/>
                  <a:pt x="1390438" y="747405"/>
                </a:cubicBezTo>
                <a:cubicBezTo>
                  <a:pt x="1387722" y="1084499"/>
                  <a:pt x="1157924" y="1377322"/>
                  <a:pt x="831139" y="1460098"/>
                </a:cubicBezTo>
                <a:cubicBezTo>
                  <a:pt x="504355" y="1542874"/>
                  <a:pt x="162866" y="1394760"/>
                  <a:pt x="0" y="1099609"/>
                </a:cubicBezTo>
                <a:lnTo>
                  <a:pt x="13669" y="1092065"/>
                </a:lnTo>
                <a:cubicBezTo>
                  <a:pt x="173106" y="1381000"/>
                  <a:pt x="507403" y="1525995"/>
                  <a:pt x="827305" y="1444962"/>
                </a:cubicBezTo>
                <a:cubicBezTo>
                  <a:pt x="1147207" y="1363929"/>
                  <a:pt x="1372164" y="1077274"/>
                  <a:pt x="1374823" y="747279"/>
                </a:cubicBezTo>
                <a:cubicBezTo>
                  <a:pt x="1377482" y="417285"/>
                  <a:pt x="1157171" y="127041"/>
                  <a:pt x="838617" y="40865"/>
                </a:cubicBezTo>
                <a:cubicBezTo>
                  <a:pt x="520062" y="-45311"/>
                  <a:pt x="183473" y="94278"/>
                  <a:pt x="19402" y="380607"/>
                </a:cubicBezTo>
                <a:cubicBezTo>
                  <a:pt x="14887" y="378019"/>
                  <a:pt x="10371" y="375431"/>
                  <a:pt x="5855" y="372843"/>
                </a:cubicBezTo>
                <a:cubicBezTo>
                  <a:pt x="131556" y="153477"/>
                  <a:pt x="356386" y="18427"/>
                  <a:pt x="598226" y="1751"/>
                </a:cubicBezTo>
                <a:close/>
              </a:path>
            </a:pathLst>
          </a:custGeom>
          <a:solidFill>
            <a:srgbClr val="e95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AA0-8284-4868-9274-FFE27E2169A3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EEA-25D6-40F4-9574-DF2E66F258E5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1265"/>
          <p:cNvSpPr/>
          <p:nvPr/>
        </p:nvSpPr>
        <p:spPr>
          <a:xfrm>
            <a:off x="2590920" y="83808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一生勤劳忙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专去百花乡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回来献一物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香甜胜过糖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86" name="图片 11267" descr="j0151207[1]"/>
          <p:cNvPicPr/>
          <p:nvPr/>
        </p:nvPicPr>
        <p:blipFill>
          <a:blip r:embed="rId1"/>
          <a:stretch/>
        </p:blipFill>
        <p:spPr>
          <a:xfrm>
            <a:off x="6172200" y="4572000"/>
            <a:ext cx="12351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3553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2" name="矩形 23554"/>
          <p:cNvSpPr/>
          <p:nvPr/>
        </p:nvSpPr>
        <p:spPr>
          <a:xfrm>
            <a:off x="533520" y="19051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听说蜜蜂有辨认方向的能力，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无论飞到哪里，它总是可以回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原处。我想做个试验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3" name="矩形 23556"/>
          <p:cNvSpPr/>
          <p:nvPr/>
        </p:nvSpPr>
        <p:spPr>
          <a:xfrm>
            <a:off x="152280" y="3809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“我”想做个什么试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4" name="矩形 23557"/>
          <p:cNvSpPr/>
          <p:nvPr/>
        </p:nvSpPr>
        <p:spPr>
          <a:xfrm>
            <a:off x="1626840" y="4648320"/>
            <a:ext cx="39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．为什么要做这个实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5" name="图片 23558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3560"/>
          <p:cNvSpPr/>
          <p:nvPr/>
        </p:nvSpPr>
        <p:spPr>
          <a:xfrm>
            <a:off x="2882880" y="5486400"/>
            <a:ext cx="28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Arial"/>
                <a:ea typeface="楷体"/>
              </a:rPr>
              <a:t>因为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所以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6386"/>
          <p:cNvSpPr/>
          <p:nvPr/>
        </p:nvSpPr>
        <p:spPr>
          <a:xfrm>
            <a:off x="457200" y="190404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自读第二自然段，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画出试验的过程。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8" name="图片 16387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638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然后，我叫小女儿在蜂窝旁等着，自己带着做了记号的二十只蜜蜂，走了两里多路，打开纸袋，把它们放出来。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" name="矩形 25602"/>
          <p:cNvSpPr/>
          <p:nvPr/>
        </p:nvSpPr>
        <p:spPr>
          <a:xfrm>
            <a:off x="1143000" y="1828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一天，我在我家花园的蜂窝里捉了一些蜜蜂，把它们放在纸袋里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2" name="矩形 25603"/>
          <p:cNvSpPr/>
          <p:nvPr/>
        </p:nvSpPr>
        <p:spPr>
          <a:xfrm>
            <a:off x="1143000" y="2819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为了证实飞回花园的蜜蜂是我放飞的，我在它们的背上做了白色的记号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3" name="矩形 25604"/>
          <p:cNvSpPr txBox="1"/>
          <p:nvPr/>
        </p:nvSpPr>
        <p:spPr>
          <a:xfrm>
            <a:off x="1371600" y="45720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4" name="图片 25605" descr="2005102208283483263"/>
          <p:cNvPicPr/>
          <p:nvPr/>
        </p:nvPicPr>
        <p:blipFill>
          <a:blip r:embed="rId1"/>
          <a:stretch/>
        </p:blipFill>
        <p:spPr>
          <a:xfrm>
            <a:off x="457200" y="304920"/>
            <a:ext cx="828720" cy="1028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5606"/>
          <p:cNvSpPr txBox="1"/>
          <p:nvPr/>
        </p:nvSpPr>
        <p:spPr>
          <a:xfrm>
            <a:off x="3124080" y="45720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6625"/>
          <p:cNvSpPr/>
          <p:nvPr/>
        </p:nvSpPr>
        <p:spPr>
          <a:xfrm>
            <a:off x="914400" y="14619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这时候起风了，蜜蜂飞得很低，  要触到地面，    这样可以减少阻力。</a:t>
            </a: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7" name="矩形 26626"/>
          <p:cNvSpPr/>
          <p:nvPr/>
        </p:nvSpPr>
        <p:spPr>
          <a:xfrm>
            <a:off x="75556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几乎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8" name="矩形 26627"/>
          <p:cNvSpPr/>
          <p:nvPr/>
        </p:nvSpPr>
        <p:spPr>
          <a:xfrm>
            <a:off x="337536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大概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9" name="矩形 26628"/>
          <p:cNvSpPr/>
          <p:nvPr/>
        </p:nvSpPr>
        <p:spPr>
          <a:xfrm>
            <a:off x="990720" y="2985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这时候起风了，蜜蜂飞得很低，要触到地面，这样可以减少阻力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我想，它们飞得这么低，     看到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遥远的家呢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1" name="矩形 27650"/>
          <p:cNvSpPr/>
          <p:nvPr/>
        </p:nvSpPr>
        <p:spPr>
          <a:xfrm>
            <a:off x="306504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2" name="矩形 27651"/>
          <p:cNvSpPr/>
          <p:nvPr/>
        </p:nvSpPr>
        <p:spPr>
          <a:xfrm>
            <a:off x="76212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我想，它们飞得这么低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能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看到遥远的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3" name="矩形 27652"/>
          <p:cNvSpPr/>
          <p:nvPr/>
        </p:nvSpPr>
        <p:spPr>
          <a:xfrm>
            <a:off x="611280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怎么能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4" name="矩形 27653"/>
          <p:cNvSpPr/>
          <p:nvPr/>
        </p:nvSpPr>
        <p:spPr>
          <a:xfrm>
            <a:off x="762120" y="3748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怎么能听到我说的话呢？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" name="矩形 27654"/>
          <p:cNvSpPr/>
          <p:nvPr/>
        </p:nvSpPr>
        <p:spPr>
          <a:xfrm>
            <a:off x="685800" y="49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不能听到我说的话。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197"/>
          <p:cNvSpPr/>
          <p:nvPr/>
        </p:nvSpPr>
        <p:spPr>
          <a:xfrm>
            <a:off x="1347840" y="1903680"/>
            <a:ext cx="650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读第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自然段，试验结果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部分，蜜蜂是什么时候飞回来的？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一边读一边画出有关的句子。 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7" name="矩形 819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8" name="图片 8199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作者做试验的</a:t>
            </a:r>
            <a:r>
              <a:rPr b="1" lang="en-US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只蜜蜂回到家了吗？试验的结果怎么样呢？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0" name="图片 28674" descr="2005102208575034063"/>
          <p:cNvPicPr/>
          <p:nvPr/>
        </p:nvPicPr>
        <p:blipFill>
          <a:blip r:embed="rId1"/>
          <a:stretch/>
        </p:blipFill>
        <p:spPr>
          <a:xfrm>
            <a:off x="152280" y="304920"/>
            <a:ext cx="19814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2293"/>
          <p:cNvSpPr/>
          <p:nvPr/>
        </p:nvSpPr>
        <p:spPr>
          <a:xfrm>
            <a:off x="1227240" y="1980360"/>
            <a:ext cx="700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法布尔通过试验，得出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的结论是什么？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2" name="图片 12294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43" name="矩形 12295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8434"/>
          <p:cNvSpPr/>
          <p:nvPr/>
        </p:nvSpPr>
        <p:spPr>
          <a:xfrm>
            <a:off x="2299680" y="18284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 几 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9458"/>
          <p:cNvSpPr/>
          <p:nvPr/>
        </p:nvSpPr>
        <p:spPr>
          <a:xfrm>
            <a:off x="100980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文本框 19459"/>
          <p:cNvSpPr/>
          <p:nvPr/>
        </p:nvSpPr>
        <p:spPr>
          <a:xfrm>
            <a:off x="2211840" y="198108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7" name="文本框 19460"/>
          <p:cNvSpPr/>
          <p:nvPr/>
        </p:nvSpPr>
        <p:spPr>
          <a:xfrm>
            <a:off x="2880000" y="1828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8" name="文本框 19461"/>
          <p:cNvSpPr/>
          <p:nvPr/>
        </p:nvSpPr>
        <p:spPr>
          <a:xfrm>
            <a:off x="2821320" y="2971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" name="文本框 19463"/>
          <p:cNvSpPr/>
          <p:nvPr/>
        </p:nvSpPr>
        <p:spPr>
          <a:xfrm>
            <a:off x="5369400" y="160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闷热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0" name="文本框 19464"/>
          <p:cNvSpPr/>
          <p:nvPr/>
        </p:nvSpPr>
        <p:spPr>
          <a:xfrm>
            <a:off x="5174280" y="2819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楷体"/>
              </a:rPr>
              <a:t>闷闷不乐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3314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765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3316"/>
          <p:cNvSpPr/>
          <p:nvPr/>
        </p:nvSpPr>
        <p:spPr>
          <a:xfrm>
            <a:off x="1752480" y="762120"/>
            <a:ext cx="0" cy="5029200"/>
          </a:xfrm>
          <a:prstGeom prst="line">
            <a:avLst/>
          </a:prstGeom>
          <a:ln w="442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" name="直接连接符 13317"/>
          <p:cNvSpPr/>
          <p:nvPr/>
        </p:nvSpPr>
        <p:spPr>
          <a:xfrm>
            <a:off x="1981080" y="6172200"/>
            <a:ext cx="5181840" cy="0"/>
          </a:xfrm>
          <a:prstGeom prst="line">
            <a:avLst/>
          </a:prstGeom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90" name="图片 13320" descr="j0088492[1]"/>
          <p:cNvPicPr/>
          <p:nvPr/>
        </p:nvPicPr>
        <p:blipFill>
          <a:blip r:embed="rId2"/>
          <a:stretch/>
        </p:blipFill>
        <p:spPr>
          <a:xfrm>
            <a:off x="685800" y="1447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321" descr="j0088492[1]"/>
          <p:cNvPicPr/>
          <p:nvPr/>
        </p:nvPicPr>
        <p:blipFill>
          <a:blip r:embed="rId3"/>
          <a:stretch/>
        </p:blipFill>
        <p:spPr>
          <a:xfrm>
            <a:off x="685800" y="2590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323" descr="j0088492[1]"/>
          <p:cNvPicPr/>
          <p:nvPr/>
        </p:nvPicPr>
        <p:blipFill>
          <a:blip r:embed="rId4"/>
          <a:stretch/>
        </p:blipFill>
        <p:spPr>
          <a:xfrm>
            <a:off x="609480" y="365760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325" descr="j0088492[1]"/>
          <p:cNvPicPr/>
          <p:nvPr/>
        </p:nvPicPr>
        <p:blipFill>
          <a:blip r:embed="rId5"/>
          <a:stretch/>
        </p:blipFill>
        <p:spPr>
          <a:xfrm>
            <a:off x="685800" y="4800600"/>
            <a:ext cx="6858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矩形 13329"/>
          <p:cNvSpPr txBox="1"/>
          <p:nvPr/>
        </p:nvSpPr>
        <p:spPr>
          <a:xfrm rot="5400000">
            <a:off x="6362640" y="3085920"/>
            <a:ext cx="24382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蜜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图片 13330" descr="2005102208310521439"/>
          <p:cNvPicPr/>
          <p:nvPr/>
        </p:nvPicPr>
        <p:blipFill>
          <a:blip r:embed="rId6"/>
          <a:stretch/>
        </p:blipFill>
        <p:spPr>
          <a:xfrm>
            <a:off x="6934320" y="838080"/>
            <a:ext cx="128412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3331"/>
          <p:cNvSpPr/>
          <p:nvPr/>
        </p:nvSpPr>
        <p:spPr>
          <a:xfrm>
            <a:off x="7020000" y="94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BatangChe"/>
                <a:ea typeface="BatangChe"/>
              </a:rPr>
              <a:t>14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0482"/>
          <p:cNvSpPr/>
          <p:nvPr/>
        </p:nvSpPr>
        <p:spPr>
          <a:xfrm>
            <a:off x="116208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2" name="矩形 20483"/>
          <p:cNvSpPr/>
          <p:nvPr/>
        </p:nvSpPr>
        <p:spPr>
          <a:xfrm>
            <a:off x="2362320" y="19810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" name="文本框 20484"/>
          <p:cNvSpPr/>
          <p:nvPr/>
        </p:nvSpPr>
        <p:spPr>
          <a:xfrm>
            <a:off x="3135600" y="1600200"/>
            <a:ext cx="6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" name="文本框 20485"/>
          <p:cNvSpPr/>
          <p:nvPr/>
        </p:nvSpPr>
        <p:spPr>
          <a:xfrm>
            <a:off x="3124080" y="2971800"/>
            <a:ext cx="7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5" name="文本框 20486"/>
          <p:cNvSpPr/>
          <p:nvPr/>
        </p:nvSpPr>
        <p:spPr>
          <a:xfrm>
            <a:off x="4527360" y="1371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几乎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6" name="文本框 20487"/>
          <p:cNvSpPr/>
          <p:nvPr/>
        </p:nvSpPr>
        <p:spPr>
          <a:xfrm>
            <a:off x="4527360" y="2743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几个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1506"/>
          <p:cNvSpPr/>
          <p:nvPr/>
        </p:nvSpPr>
        <p:spPr>
          <a:xfrm>
            <a:off x="1162080" y="1752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" name="矩形 21507"/>
          <p:cNvSpPr/>
          <p:nvPr/>
        </p:nvSpPr>
        <p:spPr>
          <a:xfrm>
            <a:off x="2362320" y="17524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9" name="文本框 21508"/>
          <p:cNvSpPr/>
          <p:nvPr/>
        </p:nvSpPr>
        <p:spPr>
          <a:xfrm>
            <a:off x="4984560" y="1143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尽管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0" name="文本框 21509"/>
          <p:cNvSpPr/>
          <p:nvPr/>
        </p:nvSpPr>
        <p:spPr>
          <a:xfrm>
            <a:off x="5060880" y="2590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尽力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1" name="文本框 21510"/>
          <p:cNvSpPr/>
          <p:nvPr/>
        </p:nvSpPr>
        <p:spPr>
          <a:xfrm>
            <a:off x="3135960" y="13716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2" name="文本框 21511"/>
          <p:cNvSpPr/>
          <p:nvPr/>
        </p:nvSpPr>
        <p:spPr>
          <a:xfrm>
            <a:off x="3125520" y="27432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2532"/>
          <p:cNvSpPr/>
          <p:nvPr/>
        </p:nvSpPr>
        <p:spPr>
          <a:xfrm>
            <a:off x="1224360" y="457200"/>
            <a:ext cx="650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法布尔：（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823—19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）法国著名科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学家、科普作家。从小生活贫困，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岁考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入师范学校，毕业后在初中教数学。一次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带学生上户外几何课，忽然在石块上发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垒筑峰和蜂窝，从此“虫心”焕发。他花了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一个月的工资，买了一本昆虫学著作，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志做一个为虫子写历史的人。他穷毕生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力深入昆虫世界，在自然环境中对昆虫进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行观察和实验，真实地记录下昆虫的本能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与习性，写成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册之巨的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昆虫记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7171"/>
          <p:cNvSpPr/>
          <p:nvPr/>
        </p:nvSpPr>
        <p:spPr>
          <a:xfrm>
            <a:off x="1962000" y="838080"/>
            <a:ext cx="5209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四面飞散 辨认 蜂窝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逆风而飞 检查 迷失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确确实实 记忆 解释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记号 几乎 激动 尽管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陌生 遥远 本能 触到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339"/>
          <p:cNvSpPr/>
          <p:nvPr/>
        </p:nvSpPr>
        <p:spPr>
          <a:xfrm>
            <a:off x="380880" y="91368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课文先写（  ）听说（    ）有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辨别（    ）的能力，想做个</a:t>
            </a:r>
            <a:r>
              <a:rPr b="1" lang="en-US" sz="4000" spc="-1" strike="noStrike">
                <a:solidFill>
                  <a:srgbClr val="3f3f3f"/>
                </a:solidFill>
                <a:latin typeface="楷体"/>
                <a:ea typeface="楷体"/>
              </a:rPr>
              <a:t>(   )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；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再写“我”试验的（    ）；最后写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我”尚无法解释蜜蜂为什么有辨认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方向的能力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5362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5123"/>
          <p:cNvSpPr/>
          <p:nvPr/>
        </p:nvSpPr>
        <p:spPr>
          <a:xfrm>
            <a:off x="1018440" y="1676520"/>
            <a:ext cx="722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论 试 验 袋 证 概 减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2" name="文本框 5124"/>
          <p:cNvSpPr/>
          <p:nvPr/>
        </p:nvSpPr>
        <p:spPr>
          <a:xfrm>
            <a:off x="1096560" y="3733920"/>
            <a:ext cx="671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阻 测 括 确 误 途 超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" name="文本框 5125"/>
          <p:cNvSpPr/>
          <p:nvPr/>
        </p:nvSpPr>
        <p:spPr>
          <a:xfrm>
            <a:off x="215280" y="838080"/>
            <a:ext cx="86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ì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g 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 j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4" name="文本框 5126"/>
          <p:cNvSpPr/>
          <p:nvPr/>
        </p:nvSpPr>
        <p:spPr>
          <a:xfrm>
            <a:off x="340920" y="3124080"/>
            <a:ext cx="85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k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q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9221"/>
          <p:cNvSpPr/>
          <p:nvPr/>
        </p:nvSpPr>
        <p:spPr>
          <a:xfrm>
            <a:off x="1460880" y="533520"/>
            <a:ext cx="621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论 试 证 误 减 测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括 确 阻 概 验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6" name="文本框 9222"/>
          <p:cNvSpPr/>
          <p:nvPr/>
        </p:nvSpPr>
        <p:spPr>
          <a:xfrm>
            <a:off x="5181480" y="38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" name="文本框 9223"/>
          <p:cNvSpPr/>
          <p:nvPr/>
        </p:nvSpPr>
        <p:spPr>
          <a:xfrm>
            <a:off x="3311280" y="2814480"/>
            <a:ext cx="24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加一 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8" name="文本框 9224"/>
          <p:cNvSpPr/>
          <p:nvPr/>
        </p:nvSpPr>
        <p:spPr>
          <a:xfrm>
            <a:off x="140544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Arial"/>
                <a:ea typeface="楷体"/>
              </a:rPr>
              <a:t>袋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9" name="文本框 9225"/>
          <p:cNvSpPr/>
          <p:nvPr/>
        </p:nvSpPr>
        <p:spPr>
          <a:xfrm>
            <a:off x="5628240" y="4419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f3f3f"/>
                </a:solidFill>
                <a:latin typeface="楷体"/>
                <a:ea typeface="楷体"/>
              </a:rPr>
              <a:t>途超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6147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21:04Z</dcterms:created>
  <dc:creator>Administrator</dc:creator>
  <dc:description/>
  <dc:language>en-US</dc:language>
  <cp:lastModifiedBy>小慕</cp:lastModifiedBy>
  <dcterms:modified xsi:type="dcterms:W3CDTF">2018-02-28T11:20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Version">
    <vt:r8>1</vt:r8>
  </property>
</Properties>
</file>